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27A-D1EA-48B4-9189-6CC45BD5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0C5-30FC-40C2-8BAC-BEF7FEF1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59F-BCD1-4A08-83DD-51687FAF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651-F2D3-446E-89E1-600B142A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5CE-60AB-40B0-9DB8-82227DA1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B89-918A-477A-A663-3EC65A84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611-BAED-4811-8EE0-A1138395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CAB-3403-4250-B0E9-85CDC6B8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9D5-E988-49AE-933C-56092F7A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D64-0E08-42CA-A102-5CB78C14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926-6187-4722-A9D6-D8C6602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9A6-CB3F-4E43-B126-F787079F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9336-B609-4D9D-951E-699902D7F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Economic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creation of a good or service that has value to another indivi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method of getting the goods to the individuals who will us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actual use of the goods that are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products that are desired by individu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processes that are desired by individu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individual who will use the goods or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individual who will create the goods or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independent unit of custo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- the scientific study of the means of producing and distributing goods and services so that they may be consumed by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notebooks, list everything you could ever wan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n your lists is attainable and what is likely to never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rcity of a variety of resources prevents us from getting what we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= goods, land,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r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the imbalance between unlimited wants and limi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people to make choices about using resources to satisfy w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itates choice at the individual and the public polic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3:34:48Z</dcterms:created>
  <dc:creator>Lauren Amorin</dc:creator>
  <dc:description/>
  <dc:language>en-US</dc:language>
  <cp:lastModifiedBy>Lauren Amorin</cp:lastModifiedBy>
  <dcterms:modified xsi:type="dcterms:W3CDTF">2013-04-08T03:45:38Z</dcterms:modified>
  <cp:revision>2</cp:revision>
  <dc:subject/>
  <dc:title>Slide 1</dc:title>
</cp:coreProperties>
</file>